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0520" y="1243080"/>
            <a:ext cx="4476960" cy="3357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87640"/>
            <a:ext cx="54864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B4EC-98BF-4578-8BAC-CB3EAE463F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90520" y="1243080"/>
            <a:ext cx="4476960" cy="33573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787640"/>
            <a:ext cx="54864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9448920"/>
            <a:ext cx="2971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70E9-0C55-43E8-8A73-A04B60FA48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7F82-5973-4A23-805A-84B13CAF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A611-10A8-4146-BF0B-D0E908DE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E6D6-D1EF-4C32-A561-F57A5C46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5402-C47C-48F3-8431-B8402ACB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795F-8BEB-4CD0-A168-4734E9E8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5197-3BF1-4433-B143-D0C79557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A52C-C4C5-4EB7-9431-E627479A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8739-E1FF-4FA9-AEAB-3873DD76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8012-D644-4E5B-B5A4-3D100874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8991-DA2E-4F68-9EBD-5D07CD71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5A2B-035F-41F7-99F1-D13783BF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14F6-B915-4141-A440-31B61552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e6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098E-E587-4DB3-B5DF-C05E4EA07B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3480" y="30240"/>
            <a:ext cx="9140760" cy="6804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03280" y="692280"/>
            <a:ext cx="576108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70ac6"/>
                </a:solidFill>
                <a:latin typeface="Times New Roman"/>
                <a:ea typeface="Times New Roman"/>
              </a:rPr>
              <a:t>The Humanitarian project of the health care institution “Central District Hospital of Marina Gorka” is  looking for sponsors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s://pyatochkin.ru/images/images/2.jpg"/>
          <p:cNvPicPr/>
          <p:nvPr/>
        </p:nvPicPr>
        <p:blipFill>
          <a:blip r:embed="rId1"/>
          <a:stretch/>
        </p:blipFill>
        <p:spPr>
          <a:xfrm>
            <a:off x="0" y="-14400"/>
            <a:ext cx="9172440" cy="68724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"/>
          <p:cNvSpPr/>
          <p:nvPr/>
        </p:nvSpPr>
        <p:spPr>
          <a:xfrm rot="20540400">
            <a:off x="178200" y="1133640"/>
            <a:ext cx="631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Thank you for attention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5607000" y="2220840"/>
            <a:ext cx="3537000" cy="4653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32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name of the project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179280" y="104292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0ac6"/>
                </a:solidFill>
                <a:latin typeface="Times New Roman"/>
                <a:ea typeface="Times New Roman"/>
              </a:rPr>
              <a:t>«</a:t>
            </a:r>
            <a:r>
              <a:rPr b="1" lang="en-US" sz="4000" spc="-1" strike="noStrike">
                <a:solidFill>
                  <a:srgbClr val="170ac6"/>
                </a:solidFill>
                <a:latin typeface="Times New Roman"/>
                <a:ea typeface="Times New Roman"/>
              </a:rPr>
              <a:t>MODERN EQUIPMENT</a:t>
            </a:r>
            <a:r>
              <a:rPr b="1" lang="ru-RU" sz="4000" spc="-1" strike="noStrike">
                <a:solidFill>
                  <a:srgbClr val="170ac6"/>
                </a:solidFill>
                <a:latin typeface="Times New Roman"/>
                <a:ea typeface="Times New Roman"/>
              </a:rPr>
              <a:t>- </a:t>
            </a:r>
            <a:r>
              <a:rPr b="1" lang="en-US" sz="4000" spc="-1" strike="noStrike">
                <a:solidFill>
                  <a:srgbClr val="170ac6"/>
                </a:solidFill>
                <a:latin typeface="Times New Roman"/>
                <a:ea typeface="Times New Roman"/>
              </a:rPr>
              <a:t>HELP TO BE BORN HEALTHY</a:t>
            </a:r>
            <a:r>
              <a:rPr b="1" lang="ru-RU" sz="4000" spc="-1" strike="noStrike">
                <a:solidFill>
                  <a:srgbClr val="170ac6"/>
                </a:solidFill>
                <a:latin typeface="Times New Roman"/>
                <a:ea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324000" y="2971800"/>
            <a:ext cx="46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uration: 1 ye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179280" y="4292640"/>
            <a:ext cx="5427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The applicant organization proposing the project is the health care institution “Central District Hospital of Marina Gork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255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025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goals of the project: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108000" y="907920"/>
            <a:ext cx="892800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264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ssistance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92160" indent="264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ing signs of fetal suffering of the fetus or increasing in        their severity in the second stage of childbirth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92160" indent="264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hypoxia when the fetal head is in the exit of the pelvi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92160" indent="264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kness of labor activity in the second stage of childbirth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92160" indent="264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transverse position of interparietal suture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92160" indent="264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litic interposition of the fetal head, obstructing the normal course of labor activity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92160" indent="264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al of the fetal head during cesarean sec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92160" indent="264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92160" indent="264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he planned shortening of the second period of childbirth if there is extrarenital pathology, when prolonged and severe attempts are contraindicated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4840" y="188640"/>
            <a:ext cx="8163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tasks planned as a part of the implementation of the projec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611280" y="2276640"/>
            <a:ext cx="820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suring a favorable outcome of pregnancy and childbirth for the mother and fetu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4840" y="188640"/>
            <a:ext cx="816300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target group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324000" y="1392120"/>
            <a:ext cx="460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The female population of the Pukhovichi district, as well as residents of nearby area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https://chicagofamilyplanning.files.wordpress.com/2013/11/device_02_big.jpg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4840" y="189000"/>
            <a:ext cx="8163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brief description of the project activitie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179280" y="1413000"/>
            <a:ext cx="8964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70ac6"/>
                </a:solidFill>
                <a:latin typeface="Times New Roman"/>
                <a:ea typeface="Times New Roman"/>
              </a:rPr>
              <a:t>1. project formulation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70ac6"/>
                </a:solidFill>
                <a:latin typeface="Times New Roman"/>
                <a:ea typeface="Times New Roman"/>
              </a:rPr>
              <a:t>2. carrying out the procedure for the purchase of medical equipment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70ac6"/>
                </a:solidFill>
                <a:latin typeface="Times New Roman"/>
                <a:ea typeface="Times New Roman"/>
              </a:rPr>
              <a:t>3. installation of equipment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70ac6"/>
                </a:solidFill>
                <a:latin typeface="Times New Roman"/>
                <a:ea typeface="Times New Roman"/>
              </a:rPr>
              <a:t>4. training of medical personnel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http://djankoiadm.ru/photosnews/8869/807e7e7ba1a1f2f708c332110401534e.jpg"/>
          <p:cNvPicPr/>
          <p:nvPr/>
        </p:nvPicPr>
        <p:blipFill>
          <a:blip r:embed="rId1"/>
          <a:stretch/>
        </p:blipFill>
        <p:spPr>
          <a:xfrm>
            <a:off x="-17640" y="0"/>
            <a:ext cx="929664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4840" y="189000"/>
            <a:ext cx="8163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anc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1"/>
          <p:cNvSpPr/>
          <p:nvPr/>
        </p:nvSpPr>
        <p:spPr>
          <a:xfrm>
            <a:off x="90360" y="1025640"/>
            <a:ext cx="91886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70ac6"/>
                </a:solidFill>
                <a:latin typeface="Times New Roman"/>
                <a:ea typeface="Calibri"/>
              </a:rPr>
              <a:t>Amount of financing:</a:t>
            </a:r>
            <a:r>
              <a:rPr b="0" lang="ru-RU" sz="5400" spc="-1" strike="noStrike">
                <a:solidFill>
                  <a:srgbClr val="170ac6"/>
                </a:solidFill>
                <a:latin typeface="Times New Roman"/>
                <a:ea typeface="Calibri"/>
              </a:rPr>
              <a:t>           </a:t>
            </a:r>
            <a:r>
              <a:rPr b="1" lang="en-US" sz="5400" spc="-1" strike="noStrike">
                <a:solidFill>
                  <a:srgbClr val="170ac6"/>
                </a:solidFill>
                <a:latin typeface="Times New Roman"/>
                <a:ea typeface="Calibri"/>
              </a:rPr>
              <a:t>12500 $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Times New Roman"/>
                <a:ea typeface="Calibri"/>
              </a:rPr>
              <a:t>The source of financing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Calibri"/>
              </a:rPr>
              <a:t>Sponsor funds </a:t>
            </a:r>
            <a:r>
              <a:rPr b="1" lang="ru-RU" sz="5400" spc="-1" strike="noStrike">
                <a:solidFill>
                  <a:srgbClr val="ff00ff"/>
                </a:solidFill>
                <a:latin typeface="Times New Roman"/>
                <a:ea typeface="Calibri"/>
              </a:rPr>
              <a:t>– 11250 </a:t>
            </a:r>
            <a:r>
              <a:rPr b="1" lang="en-US" sz="5400" spc="-1" strike="noStrike">
                <a:solidFill>
                  <a:srgbClr val="ff00ff"/>
                </a:solidFill>
                <a:latin typeface="Times New Roman"/>
                <a:ea typeface="Calibri"/>
              </a:rPr>
              <a:t>$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Times New Roman"/>
                <a:ea typeface="Calibri"/>
              </a:rPr>
              <a:t>Own funds 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Calibri"/>
              </a:rPr>
              <a:t>– </a:t>
            </a: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Calibri"/>
              </a:rPr>
              <a:t>1250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Calibri"/>
              </a:rPr>
              <a:t>$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s://ideyadoma.by/wp-content/uploads/2019/02/9ob600x400.jpg"/>
          <p:cNvPicPr/>
          <p:nvPr/>
        </p:nvPicPr>
        <p:blipFill>
          <a:blip r:embed="rId1"/>
          <a:stretch/>
        </p:blipFill>
        <p:spPr>
          <a:xfrm>
            <a:off x="0" y="19080"/>
            <a:ext cx="9163080" cy="6838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4840" y="189000"/>
            <a:ext cx="81630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project location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108000" y="1628640"/>
            <a:ext cx="892800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The Health Care Institution “Central District Hospital of Marina Gorka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50 Kalinina stre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Marina Gor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Puhovichi distri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Minsk reg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0" y="14400"/>
            <a:ext cx="9174240" cy="69516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2320" y="115560"/>
            <a:ext cx="8163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ac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108000" y="1628640"/>
            <a:ext cx="8712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c090"/>
                </a:solidFill>
                <a:latin typeface="Times New Roman"/>
                <a:ea typeface="Calibri"/>
              </a:rPr>
              <a:t>Head physicia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Lyudmila Zharinov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c090"/>
                </a:solidFill>
                <a:latin typeface="Times New Roman"/>
                <a:ea typeface="Calibri"/>
              </a:rPr>
              <a:t>Contact detail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telephones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+375171335715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reception desk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 +37517133544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e-mail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: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info@mgorka-crb.b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2T15:07:15Z</dcterms:created>
  <dc:creator>Дерушко Анна</dc:creator>
  <dc:description/>
  <dc:language>en-US</dc:language>
  <cp:lastModifiedBy>Дерушко Анна</cp:lastModifiedBy>
  <cp:lastPrinted>2019-08-27T08:12:46Z</cp:lastPrinted>
  <dcterms:modified xsi:type="dcterms:W3CDTF">2019-08-27T09:20:50Z</dcterms:modified>
  <cp:revision>37</cp:revision>
  <dc:subject/>
  <dc:title>Гуманитарный проект учреждения здравоохранения «Марьиногорская центральная районная больница» ищет спонсоров</dc:title>
</cp:coreProperties>
</file>